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B40C-AD52-4970-A4AC-E232E40F0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B1CB-F3D1-4B1E-9A53-C918CBFA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6B53-1195-4FCF-B3D9-EC05E8D77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C40C-5302-41AC-8389-3AE42ED51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0063-963D-405E-914B-B63685C8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27DE-7144-4263-9CCB-C1AAC24B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D21F-A3A4-4E17-BAF8-9AA5EC2D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C76C-BCCE-4DCD-9818-77AA4921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C88C-DEEF-4360-99C9-C389BF65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9C21-1F90-4FA2-8A87-137F53C4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F449-1548-4234-BAD7-D3196876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04D7-82A4-41F7-96F8-20A3D0F8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9739-45C4-41DB-A1DC-5B73C527F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05740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943600" y="266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0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33720" y="22860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352680" y="7621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19520" y="761760"/>
            <a:ext cx="1218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638680" y="1447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352680" y="7621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520" y="761760"/>
            <a:ext cx="1218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2819520"/>
            <a:ext cx="8991720" cy="3132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791320" y="1371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352680" y="7621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520" y="761760"/>
            <a:ext cx="1218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95280" y="2365200"/>
            <a:ext cx="6248520" cy="4114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715000" y="1295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300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352680" y="7621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520" y="761760"/>
            <a:ext cx="1218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651200" cy="4651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638680" y="1447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3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352680" y="7621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19520" y="761760"/>
            <a:ext cx="1218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6629400" cy="3965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638680" y="1447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352680" y="7621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19520" y="761760"/>
            <a:ext cx="1218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6172200" cy="4605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867280" y="1371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7913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0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800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22:30:25Z</dcterms:created>
  <dc:creator>cdoty</dc:creator>
  <dc:description/>
  <dc:language>en-US</dc:language>
  <cp:lastModifiedBy>rcipolla</cp:lastModifiedBy>
  <dcterms:modified xsi:type="dcterms:W3CDTF">2009-03-10T18:57:53Z</dcterms:modified>
  <cp:revision>8</cp:revision>
  <dc:subject/>
  <dc:title>Slide 1</dc:title>
</cp:coreProperties>
</file>